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501CB-F683-4212-ADD2-0A8F1A7A13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D1ADB-A2E7-4824-BE3C-05D78CCC4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6AD3F-DBDE-4133-9A04-E6CDDAF89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F4A1C-4E7A-4ECE-86DE-F8D3724DB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04C-A55B-4574-9F2C-78EEBE67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BDF-B06D-46E5-AB1F-64D1878A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45F-EFA8-4349-AB65-D69624A4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483-0FC8-47F7-9B1A-0D59F6E9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05D-A8A7-4663-AAEE-CDF3A80E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15A-AA56-4B72-B41C-1E1E1503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144-C019-4689-8478-B378623F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67E-F088-4682-919B-AB62E58E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ADC-BC4D-4874-BD97-3630A1A9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908-4CB0-4873-AE14-D1DBD822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357-3B76-4889-8D78-6A6C39E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0F6-A010-4278-BC63-7A0BC2BB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1CAC8-ED62-4C8F-9BD8-EC85E2B750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7C3EA-8312-4D8F-9FBD-E7FEA0495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12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DC – Sample of Instructional Strateg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014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The following are excerpts/condensed mini-tasks from one of my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76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kill Cluster 2:  Reading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cont.)</a:t>
            </a:r>
            <a:br>
              <a:rPr sz="2000"/>
            </a:b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he following skills, Active Reading and Note-Taking, are completed in conjunction with each other for each text.             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*3 Class Periods Total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835200"/>
          <a:ext cx="9144000" cy="6180120"/>
        </p:xfrm>
        <a:graphic>
          <a:graphicData uri="http://schemas.openxmlformats.org/drawingml/2006/table">
            <a:tbl>
              <a:tblPr/>
              <a:tblGrid>
                <a:gridCol w="1725480"/>
                <a:gridCol w="1667160"/>
                <a:gridCol w="2087280"/>
                <a:gridCol w="3664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kill / Defin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duct &amp; Prom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cor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ctive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bility to identify the central point and main supporting evidence of tex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multimedia sour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CCSS 11-12 SS.R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annotation techniques to engage with and analyze the tex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Active Reading Rubric to give formative feedback on annotated articles - does it have a variety of marks, written questions, connections, and insights in the margi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ntload vocabulary synonyms for market and command economies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odel Active Read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er models active reading (annotation) with first artic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nk aloud”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 pair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finis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ing and record vocabul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18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Note-Ta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bility to read purposefully and select relevant info &amp; summariz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CCSS 11-12 SS.R.1-4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While reading the texts, use your Writer’s Notebook to define vocabulary, summarize and record essential ev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keep all materials (including Writer’s Notebook and texts) in portfol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a checklist/comment sheet to provide students feedback on their no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rief review of summary wri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use a variety of summary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ing / note-taking activities: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word summary, recip. teaching, metacognitive log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use strategies first in pairs, then independently to record evidence from text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rganizing 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ility to prioritize and narrow notes an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ppropriately record citation information for each text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oritize relevant information and place text citation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the “organizing notes” section of the Writer’s Noteboo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s  use peer feedback to evaluate the organized notes section of their Writer’s Notebook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 how to utilize the organizing notes graphic organizer and support students as they complete the rest independently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will use peer feedback to evaluate the organizing notes sectio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xtra Suppor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rovide leading question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514520" y="233280"/>
            <a:ext cx="6086520" cy="6624720"/>
          </a:xfrm>
          <a:prstGeom prst="rect">
            <a:avLst/>
          </a:prstGeom>
          <a:ln w="0">
            <a:noFill/>
          </a:ln>
        </p:spPr>
      </p:pic>
      <p:sp>
        <p:nvSpPr>
          <p:cNvPr id="7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Screen shot 2013-02-09 at 4.32.51 AM.png"/>
          <p:cNvPicPr/>
          <p:nvPr/>
        </p:nvPicPr>
        <p:blipFill>
          <a:blip r:embed="rId1"/>
          <a:stretch/>
        </p:blipFill>
        <p:spPr>
          <a:xfrm>
            <a:off x="601560" y="503280"/>
            <a:ext cx="80409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ActiveReading1.jpg"/>
          <p:cNvPicPr/>
          <p:nvPr/>
        </p:nvPicPr>
        <p:blipFill>
          <a:blip r:embed="rId1"/>
          <a:stretch/>
        </p:blipFill>
        <p:spPr>
          <a:xfrm>
            <a:off x="1155600" y="1405080"/>
            <a:ext cx="6821640" cy="4549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Modeling Active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ActiveReading.Healthcare-1.jpg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762200" y="0"/>
            <a:ext cx="5589360" cy="6808680"/>
          </a:xfrm>
          <a:prstGeom prst="rect">
            <a:avLst/>
          </a:prstGeom>
          <a:ln w="0">
            <a:noFill/>
          </a:ln>
        </p:spPr>
      </p:pic>
      <p:sp>
        <p:nvSpPr>
          <p:cNvPr id="8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Screen shot 2013-01-11 at 5.10.39 PM.png"/>
          <p:cNvPicPr/>
          <p:nvPr/>
        </p:nvPicPr>
        <p:blipFill>
          <a:blip r:embed="rId1"/>
          <a:stretch/>
        </p:blipFill>
        <p:spPr>
          <a:xfrm>
            <a:off x="2076480" y="127080"/>
            <a:ext cx="4991040" cy="6603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Screen shot 2013-01-11 at 5.18.40 PM.png"/>
          <p:cNvPicPr/>
          <p:nvPr/>
        </p:nvPicPr>
        <p:blipFill>
          <a:blip r:embed="rId1"/>
          <a:stretch/>
        </p:blipFill>
        <p:spPr>
          <a:xfrm>
            <a:off x="1487520" y="0"/>
            <a:ext cx="6046920" cy="67215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kill Cluster 3:  Transition to Wri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able 3" descr=""/>
          <p:cNvPicPr/>
          <p:nvPr/>
        </p:nvPicPr>
        <p:blipFill>
          <a:blip r:embed="rId1"/>
          <a:stretch/>
        </p:blipFill>
        <p:spPr>
          <a:xfrm>
            <a:off x="-23760" y="1427040"/>
            <a:ext cx="9277200" cy="42973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0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kill Cluster 4:  Writing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 rot="10800000">
            <a:off x="457200" y="5076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Table 3" descr=""/>
          <p:cNvPicPr/>
          <p:nvPr/>
        </p:nvPicPr>
        <p:blipFill>
          <a:blip r:embed="rId1"/>
          <a:stretch/>
        </p:blipFill>
        <p:spPr>
          <a:xfrm>
            <a:off x="-23760" y="828720"/>
            <a:ext cx="9277200" cy="624204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Preparing for the Modu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2720" y="1241280"/>
            <a:ext cx="78328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badi MT Condensed Extra Bold"/>
                <a:ea typeface="Arial"/>
              </a:rPr>
              <a:t>Portfol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 students on task, organized, and provides a sense of “building” the skills and ess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badi MT Condensed Extra Bold"/>
                <a:ea typeface="Arial"/>
              </a:rPr>
              <a:t>Writer’s Noteboo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writing is done in one place so students can access the task, brainstorming, outline, rubric, and vocabula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badi MT Condensed Extra Bold"/>
                <a:ea typeface="Arial"/>
              </a:rPr>
              <a:t>Accommo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P and ELL students – Use 1 or 2 texts instead of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tudents – Provide optional texts that can help them develop a more complex ess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ra support” plan provided at each skill in the instructional lad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Thesis.Outline-1.jpg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0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kill Cluster 4:  Writing Process </a:t>
            </a:r>
            <a:r>
              <a:rPr b="0" i="1" lang="en-US" sz="2600" spc="-1" strike="noStrike">
                <a:solidFill>
                  <a:srgbClr val="000000"/>
                </a:solidFill>
                <a:latin typeface="Arial Black"/>
              </a:rPr>
              <a:t>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 rot="10800000">
            <a:off x="457200" y="5076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Table 3" descr=""/>
          <p:cNvPicPr/>
          <p:nvPr/>
        </p:nvPicPr>
        <p:blipFill>
          <a:blip r:embed="rId1"/>
          <a:stretch/>
        </p:blipFill>
        <p:spPr>
          <a:xfrm>
            <a:off x="-23760" y="828720"/>
            <a:ext cx="9277200" cy="61326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704960" y="0"/>
            <a:ext cx="56214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badi MT Condensed Extra Bold"/>
              </a:rPr>
              <a:t>Portfolio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5" descr="Portfolio.jpg"/>
          <p:cNvPicPr/>
          <p:nvPr/>
        </p:nvPicPr>
        <p:blipFill>
          <a:blip r:embed="rId1"/>
          <a:stretch/>
        </p:blipFill>
        <p:spPr>
          <a:xfrm>
            <a:off x="446040" y="1135080"/>
            <a:ext cx="8271000" cy="5342040"/>
          </a:xfrm>
          <a:prstGeom prst="rect">
            <a:avLst/>
          </a:prstGeom>
          <a:ln w="0">
            <a:noFill/>
          </a:ln>
        </p:spPr>
      </p:pic>
      <p:sp>
        <p:nvSpPr>
          <p:cNvPr id="5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46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69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structional Lad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Skill Cluster 1:  Preparing for the Tas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able 6" descr=""/>
          <p:cNvPicPr/>
          <p:nvPr/>
        </p:nvPicPr>
        <p:blipFill>
          <a:blip r:embed="rId1"/>
          <a:stretch/>
        </p:blipFill>
        <p:spPr>
          <a:xfrm>
            <a:off x="-23760" y="603360"/>
            <a:ext cx="927720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292480" y="139680"/>
            <a:ext cx="4559040" cy="6578640"/>
          </a:xfrm>
          <a:prstGeom prst="rect">
            <a:avLst/>
          </a:prstGeom>
          <a:ln w="0">
            <a:noFill/>
          </a:ln>
        </p:spPr>
      </p:pic>
      <p:sp>
        <p:nvSpPr>
          <p:cNvPr id="6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Screen shot 2013-01-11 at 4.57.33 PM.png"/>
          <p:cNvPicPr/>
          <p:nvPr/>
        </p:nvPicPr>
        <p:blipFill>
          <a:blip r:embed="rId1"/>
          <a:stretch/>
        </p:blipFill>
        <p:spPr>
          <a:xfrm>
            <a:off x="2044800" y="133200"/>
            <a:ext cx="5054400" cy="6591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68200" y="847800"/>
            <a:ext cx="4840200" cy="559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RubricTranslation.jpg"/>
          <p:cNvPicPr/>
          <p:nvPr/>
        </p:nvPicPr>
        <p:blipFill>
          <a:blip r:embed="rId2"/>
          <a:stretch/>
        </p:blipFill>
        <p:spPr>
          <a:xfrm>
            <a:off x="3479760" y="384120"/>
            <a:ext cx="5291280" cy="3656160"/>
          </a:xfrm>
          <a:prstGeom prst="rect">
            <a:avLst/>
          </a:prstGeom>
          <a:ln w="0">
            <a:noFill/>
          </a:ln>
        </p:spPr>
      </p:pic>
      <p:sp>
        <p:nvSpPr>
          <p:cNvPr id="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4160" y="325440"/>
            <a:ext cx="8432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kill Cluster 2:  Reading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able 3" descr=""/>
          <p:cNvPicPr/>
          <p:nvPr/>
        </p:nvPicPr>
        <p:blipFill>
          <a:blip r:embed="rId1"/>
          <a:stretch/>
        </p:blipFill>
        <p:spPr>
          <a:xfrm>
            <a:off x="-6480" y="1384200"/>
            <a:ext cx="9279000" cy="3870360"/>
          </a:xfrm>
          <a:prstGeom prst="rect">
            <a:avLst/>
          </a:prstGeom>
          <a:ln w="0">
            <a:noFill/>
          </a:ln>
        </p:spPr>
      </p:pic>
      <p:sp>
        <p:nvSpPr>
          <p:cNvPr id="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17:52:16Z</dcterms:created>
  <dc:creator>Kathy Thiebes</dc:creator>
  <dc:description/>
  <dc:language>en-US</dc:language>
  <cp:lastModifiedBy>Guest</cp:lastModifiedBy>
  <dcterms:modified xsi:type="dcterms:W3CDTF">2013-08-06T20:42:03Z</dcterms:modified>
  <cp:revision>55</cp:revision>
  <dc:subject/>
  <dc:title>Slide 1</dc:title>
</cp:coreProperties>
</file>